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2D3C-2B8E-46F3-9EE5-71C31B823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ing to talk about gene expression databases, and the When and Where aspects of gene expressio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 metaphor well established.  Directory/folder navigation on PCs.  Graphs are not as familiar to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graphs as tress anyway.  Have to communicate to user that what appears as two separate parts of tree are actually the s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raw them as graphs.  See Mary Dolan’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annotation propagates downward.  Positive information propagates up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combine annotations when you have extra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S is a different colour here, but it is not significantly different from the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times even spatial only requires DAG strucu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point is 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a single assay, a list may make s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summarise the whole dataset a tree may work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user is not an expert anatomist.  How do you make interfaces flexible enough to help these users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display 2600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ex do you want your queries to b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aises its ugly head again.  Average user will think that these two queries should two distinct sets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at cover every experiment in the datab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me all experiments without expression in X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explain 3-valued logic to web us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going to introduce the issues then talk about some implemented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OR searches, AND searches.  But can’t combine the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t expressed annotations, but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size of ontology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-completion of terms (AJ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lso query from complet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and pattern, and how to propagate that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s with complex anatomy by reducing it to 100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them to specify positive and negative annotation for all 100 terms in the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I/Mary Do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annotation as a graph, drawn on the scr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ally informative about how the terms are related to each other,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a lot of screen space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it take new users to figure this format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andons (almost) text annotation.  Instead of describing expression with words, describe it with 3-D models of embryonic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ene expression images and map them to model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pressed generated as part of the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based on what the author says, but rather than what the images s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DMAP/EuRe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l with complex Boolean expressions by use of sets and set-based operation.  AND/OR/NOT all supported using intersection, union, dif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complicated form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a tax form query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blem is to balance flexibility with ease of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complexity / size: see later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ge range: Allows for flexible time wind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detected annotations:  ZFIN records them, but you can’t query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/All, propoagation both switchable by u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ing the user deal with the complex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ed anatomy terms are recorded for later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looked for adaxial cell and noto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ays grouped first by ge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s one of the entries from the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figure 3 from this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annotations presented as a list, ordered by time and then alphabe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for many assay types the image is the most important piece of source data.  However, ZFIN has decided to annotate publications even where the image is not avail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native ways to find this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tomy browser.  Can search for terms, uses Ajax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e I searched for head across all stages.  Shows me links to gene expression assays that are annotated for each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 particular stage as a tree.  The only time you’ll see a tree at ZF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ed about presenting a single assay vs larger datab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thetical fish / Abstract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rything is li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 user search for terms using their brow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lso get to it from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hole point of this slid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LK!  INTERRUPT!  ASK QUESTIONS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ctures are not nearly as interesting as discu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what you get if you click the link from the cav3 gene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FIN demonstrates importance of integration.  Everything on this page is hot link t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is Gregor Eichele’s chi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a web site that focuses on mouse ISH experiments on sections all produced by the same automated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uses 10 icons to convey different combinations of strength, pattern, and detected / not det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key is pulled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ey shows examples of what they mean by each lab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fortunately key is not linked to from results p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query form showing the results of the given query: hox and annotation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you can search by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ssue is not shown, but there are only 5 or terms in the pu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2 st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 of clicking on first entry on  previou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deals with anatomical complexity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annotating a single 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ing the anatomy ontology for that stage down to 100 or s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et is a tree, not a D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very assay they annotate every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w annotation in a collapsible / expandable tree on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nt takes 20-24 sections and pictures for each assay, each slicing through a different part of the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each (detected) annotation has a link to an image that supports that annotation.  Clicking on the link changes the thumbn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fore I dive into the details of gene expression databases, this is a good time to ask:  Is this interes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labour intensive process, the image is mapped onto the model for TS11 using tie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is then thresholded to reveal different levels of expre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absolute minimu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tell others how to reproduce your results and allow them to make judgement calls on rel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so lays the groundwork for later querying of th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 annotations are a challen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has to be followed with qualifier: “In this assay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detected” is not the same thing as the absence of a “detected” an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cepts of when and where are central to any gene expression databa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out them you can’t answer even the most basic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973-D7FF-40E2-A59C-8E55D29B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54A-C0D0-4A1D-8B22-AB65FF83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237-6AB4-41F7-9D00-C2F90B66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A21-66D6-4904-8DC1-052E0903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BFD3-2664-429B-89F6-63E118C4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6981-4074-4F79-BE70-29EF7219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6120-7C72-4448-91B5-16D68BB3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9765-F0F4-408D-BAD8-8B479F1B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B94C-2087-4C24-80BC-E00317A0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7B65-1666-407C-8E86-2C38C9D1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69C9-1812-44FC-ADAB-98E30BA1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FAD-D1F5-4789-ADA8-56FF17F0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0C8F-72AE-4339-B96A-45F452B4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BD70-6781-44A0-B6B7-14121DDD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3EF1-01D1-4A20-A2A6-9C5C355D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4FB2-A391-4F1D-8704-7AE52FF3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06BF-FFFA-4029-BE69-EF7B2D40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456A-910C-405B-A9D0-8FDA3EEF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CB2-2B37-4A06-A7CD-9F783A93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AE2-398B-4870-86FB-C6D741A5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27D-8134-4EFA-BD76-85646138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5C9-48F2-4313-A801-5BADD6A9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273-8902-4251-BC11-681B2BEE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745-0E56-425F-9D20-4BAC2B52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C37D-799F-4805-A69A-95B5F13E6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4FDA-8CCA-4869-9E8F-4587A4CF8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zfin.org/" TargetMode="External"/><Relationship Id="rId2" Type="http://schemas.openxmlformats.org/officeDocument/2006/relationships/hyperlink" Target="http://zfin.org/" TargetMode="External"/><Relationship Id="rId3" Type="http://schemas.openxmlformats.org/officeDocument/2006/relationships/hyperlink" Target="http://zfin.org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genepaint.org/Frameset.html" TargetMode="External"/><Relationship Id="rId2" Type="http://schemas.openxmlformats.org/officeDocument/2006/relationships/hyperlink" Target="http://genepaint.org/Frameset.html" TargetMode="External"/><Relationship Id="rId3" Type="http://schemas.openxmlformats.org/officeDocument/2006/relationships/hyperlink" Target="http://genepaint.org/Frameset.html" TargetMode="External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spatial.maine.edu/~mdolan/GXD_Graphs/" TargetMode="External"/><Relationship Id="rId2" Type="http://schemas.openxmlformats.org/officeDocument/2006/relationships/hyperlink" Target="http://www.spatial.maine.edu/~mdolan/GXD_Graphs/" TargetMode="External"/><Relationship Id="rId3" Type="http://schemas.openxmlformats.org/officeDocument/2006/relationships/hyperlink" Target="http://www.spatial.maine.edu/~mdolan/GXD_Graphs/" TargetMode="External"/><Relationship Id="rId4" Type="http://schemas.openxmlformats.org/officeDocument/2006/relationships/hyperlink" Target="http://www.spatial.maine.edu/~mdolan/GXD_Graphs/" TargetMode="External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genex.hgu.mrc.ac.uk/" TargetMode="External"/><Relationship Id="rId2" Type="http://schemas.openxmlformats.org/officeDocument/2006/relationships/hyperlink" Target="http://genex.hgu.mrc.ac.uk/" TargetMode="External"/><Relationship Id="rId3" Type="http://schemas.openxmlformats.org/officeDocument/2006/relationships/hyperlink" Target="http://genex.hgu.mrc.ac.uk/" TargetMode="External"/><Relationship Id="rId4" Type="http://schemas.openxmlformats.org/officeDocument/2006/relationships/hyperlink" Target="http://genex.hgu.mrc.ac.uk/" TargetMode="External"/><Relationship Id="rId5" Type="http://schemas.openxmlformats.org/officeDocument/2006/relationships/hyperlink" Target="http://genex.hgu.mrc.ac.uk/" TargetMode="External"/><Relationship Id="rId6" Type="http://schemas.openxmlformats.org/officeDocument/2006/relationships/hyperlink" Target="http://genex.hgu.mrc.ac.uk/" TargetMode="External"/><Relationship Id="rId7" Type="http://schemas.openxmlformats.org/officeDocument/2006/relationships/hyperlink" Target="http://genex.hgu.mrc.ac.uk/" TargetMode="External"/><Relationship Id="rId8" Type="http://schemas.openxmlformats.org/officeDocument/2006/relationships/hyperlink" Target="http://genex.hgu.mrc.ac.uk/" TargetMode="External"/><Relationship Id="rId9" Type="http://schemas.openxmlformats.org/officeDocument/2006/relationships/hyperlink" Target="http://genex.hgu.mrc.ac.uk/das/jsp/submission.jsp?id=EMAGE:1033" TargetMode="External"/><Relationship Id="rId10" Type="http://schemas.openxmlformats.org/officeDocument/2006/relationships/hyperlink" Target="http://genex.hgu.mrc.ac.uk/das/jsp/submission.jsp?id=EMAGE:1033" TargetMode="External"/><Relationship Id="rId11" Type="http://schemas.openxmlformats.org/officeDocument/2006/relationships/hyperlink" Target="http://genex.hgu.mrc.ac.uk/das/jsp/submission.jsp?id=EMAGE:1033" TargetMode="External"/><Relationship Id="rId12" Type="http://schemas.openxmlformats.org/officeDocument/2006/relationships/hyperlink" Target="http://genex.hgu.mrc.ac.uk/das/jsp/submission.jsp?id=EMAGE:1033" TargetMode="External"/><Relationship Id="rId13" Type="http://schemas.openxmlformats.org/officeDocument/2006/relationships/hyperlink" Target="http://genex.hgu.mrc.ac.uk/das/jsp/submission.jsp?id=EMAGE:1033" TargetMode="External"/><Relationship Id="rId14" Type="http://schemas.openxmlformats.org/officeDocument/2006/relationships/hyperlink" Target="http://genex.hgu.mrc.ac.uk/das/jsp/submission.jsp?id=EMAGE:1033" TargetMode="External"/><Relationship Id="rId15" Type="http://schemas.openxmlformats.org/officeDocument/2006/relationships/hyperlink" Target="http://genex.hgu.mrc.ac.uk/das/jsp/submission.jsp?id=EMAGE:1033" TargetMode="External"/><Relationship Id="rId16" Type="http://schemas.openxmlformats.org/officeDocument/2006/relationships/hyperlink" Target="http://genex.hgu.mrc.ac.uk/das/jsp/submission.jsp?id=EMAGE:1033" TargetMode="External"/><Relationship Id="rId17" Type="http://schemas.openxmlformats.org/officeDocument/2006/relationships/hyperlink" Target="http://genex.hgu.mrc.ac.uk/das/jsp/submission.jsp?id=EMAGE:1033" TargetMode="External"/><Relationship Id="rId18" Type="http://schemas.openxmlformats.org/officeDocument/2006/relationships/hyperlink" Target="http://genex.hgu.mrc.ac.uk/das/jsp/submission.jsp?id=EMAGE:1033" TargetMode="External"/><Relationship Id="rId19" Type="http://schemas.openxmlformats.org/officeDocument/2006/relationships/hyperlink" Target="http://genex.hgu.mrc.ac.uk/das/jsp/submission.jsp?id=EMAGE:1033" TargetMode="External"/><Relationship Id="rId2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Gene Expression Databases: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ere and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90720" y="40384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vidc@hgu.mrc.ac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ReGene and Mouse Atlas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cal Research Council Human Genetics Un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nbur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3 April 200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rees, DAGs, Lis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anatomy ontologies a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ed acyclic graphs (DA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have 1 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 or mor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(except root) can have multiple 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 have 0, 1 or many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ultiple ways to think about anat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s ar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Tree: Spatial mou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AG: Spatial and Functional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1905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4832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inal 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15200" y="46483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2286000"/>
            <a:ext cx="1828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952880" y="228600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2880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97144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19920" y="35049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7086240" y="350496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7080" y="3124080"/>
            <a:ext cx="990720" cy="381240"/>
          </a:xfrm>
          <a:prstGeom prst="roundRect">
            <a:avLst>
              <a:gd name="adj" fmla="val 16667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724280" y="2286000"/>
            <a:ext cx="0" cy="83808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809880" y="3504960"/>
            <a:ext cx="76212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4952520" y="3504960"/>
            <a:ext cx="685800" cy="1143000"/>
          </a:xfrm>
          <a:prstGeom prst="line">
            <a:avLst/>
          </a:prstGeom>
          <a:ln w="9360">
            <a:solidFill>
              <a:srgbClr val="549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nnotation in Contex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natomy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nder DAG as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context grap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erms in a fla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 user other means to figure out where/what th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hick ascending lim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ing assay versus whole data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gating annotation up/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 propagat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homogenous / ubiquitous patter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Detected propagates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whole mou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propagation be sh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, pattern,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nnotated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this be propag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much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Query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sking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my ontologies can be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use TS26 has 2600+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leans: OR/any, AND/all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ed, Not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e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users won’t know what distinguishes stages TS18 and TS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provide flexibility without swamping them in too much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confuse them by presenting terms that never coexist in a real spe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Asking What, How, Who, 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s /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bol / Name / 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ay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tterns, Confidence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xample Expression Databas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ne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 Issues: With a focus on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qu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plemented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xample Implemen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integrated basics (I like to th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P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atomy, robust pattern an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by Mary Dolan based on MGI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way to show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"/>
              </a:rPr>
              <a:t>GUDMAP/EuRe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Booleans via col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ZFI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el organism database for zebraf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zfin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7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4267080"/>
            <a:ext cx="182880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1905120"/>
            <a:ext cx="3200400" cy="12189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4191120"/>
            <a:ext cx="1905120" cy="8380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276720"/>
            <a:ext cx="91440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94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-228600" y="1600200"/>
            <a:ext cx="4191120" cy="9907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343400"/>
            <a:ext cx="4191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76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2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2209680"/>
            <a:ext cx="1447920" cy="5335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00200" y="3352680"/>
            <a:ext cx="426708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600" y="0"/>
            <a:ext cx="91314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2971800"/>
            <a:ext cx="8077320" cy="7621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he Fine Pr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, ask questions, interrup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issues and exist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roposing any new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nteresting gene expression topics I am not going to talk ab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rays, mutants, Cell/Tissue Type Ontology, curation standar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not a biolog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51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514600" y="1371600"/>
            <a:ext cx="3962520" cy="68580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GenePain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use ISH Gene Expres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paint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org/Frameset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ata uses same set of high-throughpu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4520" y="838080"/>
            <a:ext cx="4292640" cy="43434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95680" y="990720"/>
            <a:ext cx="4648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-685800"/>
            <a:ext cx="9144000" cy="7473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-152280" y="5486400"/>
            <a:ext cx="3581280" cy="6094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286000"/>
            <a:ext cx="762120" cy="38088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1523880"/>
            <a:ext cx="990360" cy="38124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0" y="3733920"/>
            <a:ext cx="609480" cy="30456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2895480"/>
            <a:ext cx="609480" cy="304920"/>
          </a:xfrm>
          <a:prstGeom prst="ellipse">
            <a:avLst/>
          </a:prstGeom>
          <a:noFill/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Mary Dolan’s work with MG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izing expression in a 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spatial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maine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edu/~mdolan/GXD_Graph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7080" y="30492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106880" cy="5715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644000" y="1185840"/>
            <a:ext cx="26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een arrows indicate “is_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rple arrows indicate “part_of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3848040" cy="7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2280" y="420840"/>
            <a:ext cx="8845560" cy="6437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15840" y="68580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GI GXD Annotations for Abca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inburgh Mouse Atlas Gene Express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//genex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hgu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mrc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.ac.</a:t>
            </a:r>
            <a:r>
              <a:rPr b="0" lang="en-GB" sz="28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completely diffe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atial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http: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//genex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1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2"/>
              </a:rPr>
              <a:t>hgu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3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4"/>
              </a:rPr>
              <a:t>mrc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5"/>
              </a:rPr>
              <a:t>.ac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6"/>
              </a:rPr>
              <a:t>uk/das/jsp/submission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7"/>
              </a:rPr>
              <a:t>.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8"/>
              </a:rPr>
              <a:t>jsp</a:t>
            </a:r>
            <a:r>
              <a:rPr b="0" lang="en-GB" sz="1800" spc="-1" strike="noStrike" u="sng">
                <a:solidFill>
                  <a:srgbClr val="99ccff"/>
                </a:solidFill>
                <a:uFillTx/>
                <a:latin typeface="Arial"/>
                <a:hlinkClick r:id="rId19"/>
              </a:rPr>
              <a:t>?id=EMAGE:103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Record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Original Imag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with original whole mount 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men from TS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35400" y="2022480"/>
            <a:ext cx="3418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: </a:t>
            </a:r>
            <a:br>
              <a:rPr sz="4400"/>
            </a:b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p to TS11 Model and threshold expres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3017880" cy="3192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837400" y="2057400"/>
            <a:ext cx="2493720" cy="4038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01084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EMAGE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1554120" cy="2514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89808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143000" y="4425840"/>
            <a:ext cx="7696080" cy="2051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941000" y="2104920"/>
            <a:ext cx="29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ct anatom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ression levels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4760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undamental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, probe, strain, all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n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developmenta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ere: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ually anatomical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y,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,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ome Additional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ous, graded, regional, spotted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 of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thin this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or expression grad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ample, image, signal, prob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: How sure am 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Not Detected Annota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but conf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ting not just to mak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not detected’ does not = not ‘detected’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value 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ed, not detected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as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ete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this as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rd to prove absence of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rtions always subject to limits of current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When and Wher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central to gene expressio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the least understood of the basic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atomy Ontologi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f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66"/>
                </a:solidFill>
                <a:latin typeface="Arial"/>
              </a:rPr>
              <a:t>Presenting Expression Dat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MOD / NESCent</cp:lastModifiedBy>
  <dcterms:modified xsi:type="dcterms:W3CDTF">2008-02-19T05:55:48Z</dcterms:modified>
  <cp:revision>38</cp:revision>
  <dc:subject/>
  <dc:title>Recording, Presenting and Querying Gene Expression Data</dc:title>
</cp:coreProperties>
</file>